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BDFE-D33E-4991-8CC6-0FFFFBF7F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758-98A8-4DA5-882B-2ECB2F73A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oosestrife = an introduced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tlands plant from Europe - like many species was released acciden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llast water in ships docked at port (seeds in water)  Also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herbal reme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enemies here, so sp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eliminated many native plants that provide food and cover for wildlif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 of Canada and the U.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on the East Coast and has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prolific, spread in water and by livestock that walk through mud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s the seeds.  20,000 seeds per 1.2 square yards in som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l plant so shades other native plants and blocks thei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tock doesn’t like is to won’t feed on it.  Reduces the carrying capa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razing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kill.  Regrows from roots if plant is cut, burned or spr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now is on bringing in natural para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3A25-FC2A-4BA9-B9B2-61AE9F252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F9A2-A548-485F-B715-8CF09004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3E69-1DA3-499E-AE30-433E5A26A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7CE-2797-41CE-BF5E-69F6A816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76 A.R. Wallace suggested idea or real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ctic =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tropial = cental and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aearctic = europe, north asia and nor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l = indian subcontinent and malay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alian = a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E2A9-F3CE-4674-9742-1B995F81F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C8BE-A3C1-4C53-B20D-5BF896127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7D02-928B-465C-ADEB-3491141D5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xamples = fish and marine mammals,  birds and bat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232B-518D-4CE3-934D-F5C1F147D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2D95-DAEF-4E09-BDEF-F26AED5D7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DF8F-0D09-47EC-B0F5-82A6BBE3A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radiation: classic example is Darwin’s f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diversity and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nd 2) smaller islands have fewer types of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less likely to be found by mi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extinction is higher for smaller pops and smaller is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an only support smaller pops (see pg 13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ources of species on islands = evolution and migration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ther away = fewer migra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and speciation rate - extinction rate = # of species o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s to maintain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E521-EDB7-4A7F-8C48-404E3A7F3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15B6-41EC-492D-AB3B-D98F436FC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17B4-D280-4FEB-B8F0-74B599A0C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evenness in a community appears more diverf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pg 119 fig 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icture, is walking through the community would hav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s of seeing all the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5E6-295F-41FD-91DB-48C704CDC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97E4-9D1E-4F11-BB56-9822D95EB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D6CC-86F5-4FB0-8733-91FD2CA81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7415-FF54-47D0-A1E9-3CD5D2579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umerous groups, with most members know, are the insect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pecies have yet to be discovered, many in the tropical rain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many species? Seems to be related to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15AC-8E28-4159-BFFE-68FE7D692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B6B3-7464-4CBD-AAFF-C1DB75263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91C-AEC7-4429-8F0B-025A94AF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074-5073-4784-B677-80F002D5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8CE-1E86-4DA0-8FAA-03B8CFA3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24C-15A6-40FC-81B6-957B806C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962-0004-4156-A95F-D4B0FA30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832-A979-4348-A3CC-D00A53F6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F3A-8E67-41DB-935E-D46A6334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9C1-21E0-48FF-802C-F8AC8716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404-E345-4D2C-96AB-BBC1BCC3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C59-AB90-4F2F-9338-5922B796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7D9-0DE6-4FCD-8DC7-361C3276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B0C-90E9-4EDF-9859-14C8413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C9B7-88E7-44A1-BA4A-206CADB51E1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 7 and 8 - Biological Diversity and Bio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7920" y="19051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Salmon Importance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237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-3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that increase or decrease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Increase divers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Physically diverse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Mode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mall variation in env.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High diversity at one trophic level increase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diversity of another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160" y="-380880"/>
            <a:ext cx="84582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Decrease divers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Environmental str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Extreme environmental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evere limitation of an essential resour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Extreme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.  Recent exotic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6.  Geographic isolation (island effec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06600" y="14400"/>
            <a:ext cx="690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greatly affect divers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and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voring one species over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pulat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diversity in an area may change over time, seasons, decades, centurie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647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eography of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kinds and numbers of species varies greatly from place to place.  These large-scale global patterns are call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iogeograph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cological gradien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 the change in relative abundance of a species over an area Examp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2556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tic Provi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“realms” were identified in 1876 based on the types of animals found t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member: classification of orgs are based on evolutionary relationships or similar characteris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63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44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drift explains the origin of these provinces as land masses periodically unified (genetic mix and spread of species) and then separated (isolation and speci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ntinent has diverse climates and habitats so diversity of species is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me = a kind of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environmental conditions (selective pressures) lead to evolution of orgs similar in form and function but not genetic heritage or internal make-up.  (This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nvergent Evol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vergent evol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when a pop. is separated and evolves in isolation from main groups, often und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fferent selec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mon ancest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retain some common characteristics of their ancestors. (ex: marine mamm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10  Evolutionary divergence among honeycreepers in Hawai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F8_10"/>
          <p:cNvPicPr/>
          <p:nvPr/>
        </p:nvPicPr>
        <p:blipFill>
          <a:blip r:embed="rId1"/>
          <a:stretch/>
        </p:blipFill>
        <p:spPr>
          <a:xfrm>
            <a:off x="1143000" y="843120"/>
            <a:ext cx="72388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observe adaptive radiation: species evol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vergent ev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y separate into smaller groups, often on different islands, each adapting to a more specialized role (nich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es diversity and isla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umber of species in a biogeographic ‘island’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Immigration rate + speciation rate – extinct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asic Concepts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4475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major concep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netic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Habitat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8.11 Idealized relation of an island’s size, distance from the mainland, and number of species. Pg 1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F8_11"/>
          <p:cNvPicPr/>
          <p:nvPr/>
        </p:nvPicPr>
        <p:blipFill>
          <a:blip r:embed="rId1"/>
          <a:stretch/>
        </p:blipFill>
        <p:spPr>
          <a:xfrm>
            <a:off x="0" y="1066680"/>
            <a:ext cx="8610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Species diversity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pecies rich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.  Species even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.  Species dominance 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4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Hw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2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nnon-Weiner Biodiversity Ind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d and do sample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w all work and solve for H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so:  Calculat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nes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each problem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Evenness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 =   H’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ln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= number of different spe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bsolute evenness =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31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29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 Hwk and Pre-lab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040" y="1447920"/>
            <a:ext cx="7769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-lab work: Do #1 as hwk. (On separate pap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ulate S-W biodiversity index for both pictures (fig. 7.4) on page 12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lve for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d Even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 all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swer pre-lab questions in lab notebook (on title pag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#2 and 3 become your hypothesis (under purpose on title pg. for upcoming la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-1188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habitat te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o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roduced  or non-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de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mopolit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very broad distributio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but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need similar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biquit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found almost everywhere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 very different habita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species on Ear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cert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ior to fogging study: Range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 - 3 mill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ter study: 10 -100 mill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2840" y="24444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-360"/>
            <a:ext cx="83059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: how species co-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abita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org lives as compa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does to survive, which is its’ ecological n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vironmental Factors That Influence Diversity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sity varies from place to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, greater in lower latitudes (trop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2:27:05Z</dcterms:created>
  <dc:creator>santiago high school</dc:creator>
  <dc:description/>
  <dc:language>en-US</dc:language>
  <cp:lastModifiedBy>infosys</cp:lastModifiedBy>
  <dcterms:modified xsi:type="dcterms:W3CDTF">2015-10-06T21:52:32Z</dcterms:modified>
  <cp:revision>67</cp:revision>
  <dc:subject/>
  <dc:title>Chapter 7 - Biological Diversity and Biogeography</dc:title>
</cp:coreProperties>
</file>